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59644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596440" cy="22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324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0880" y="4582800"/>
            <a:ext cx="8596440" cy="22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324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59644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4720" cy="22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324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5840" y="2101680"/>
            <a:ext cx="4194720" cy="22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324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0880" y="4582800"/>
            <a:ext cx="4194720" cy="22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324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5840" y="4582800"/>
            <a:ext cx="4194720" cy="22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324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59644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2767680" cy="22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324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7160" y="2101680"/>
            <a:ext cx="2767680" cy="22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324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3800" y="2101680"/>
            <a:ext cx="2767680" cy="22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324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0880" y="4582800"/>
            <a:ext cx="2767680" cy="22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324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7160" y="4582800"/>
            <a:ext cx="2767680" cy="22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324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3800" y="4582800"/>
            <a:ext cx="2767680" cy="22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324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59644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0880" y="2101680"/>
            <a:ext cx="8596440" cy="47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59644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596440" cy="47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324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59644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4720" cy="47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324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5840" y="2101680"/>
            <a:ext cx="4194720" cy="47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324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59644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0880" y="627120"/>
            <a:ext cx="859644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59644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4720" cy="22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324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5840" y="2101680"/>
            <a:ext cx="4194720" cy="47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324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0880" y="4582800"/>
            <a:ext cx="4194720" cy="22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324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59644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4720" cy="47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324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5840" y="2101680"/>
            <a:ext cx="4194720" cy="22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324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5840" y="4582800"/>
            <a:ext cx="4194720" cy="22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324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59644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4720" cy="22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324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5840" y="2101680"/>
            <a:ext cx="4194720" cy="22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324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0880" y="4582800"/>
            <a:ext cx="8596440" cy="22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324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59644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596440" cy="47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324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2480" indent="-282600">
              <a:lnSpc>
                <a:spcPct val="95000"/>
              </a:lnSpc>
              <a:spcAft>
                <a:spcPts val="1324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4120" indent="-212400">
              <a:lnSpc>
                <a:spcPct val="95000"/>
              </a:lnSpc>
              <a:spcAft>
                <a:spcPts val="1324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6120" indent="-204840">
              <a:lnSpc>
                <a:spcPct val="95000"/>
              </a:lnSpc>
              <a:spcAft>
                <a:spcPts val="1324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47760" indent="-206280">
              <a:lnSpc>
                <a:spcPct val="95000"/>
              </a:lnSpc>
              <a:spcAft>
                <a:spcPts val="1324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47760" indent="-206280">
              <a:lnSpc>
                <a:spcPct val="95000"/>
              </a:lnSpc>
              <a:spcAft>
                <a:spcPts val="1324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47760" indent="-206280">
              <a:lnSpc>
                <a:spcPct val="95000"/>
              </a:lnSpc>
              <a:spcAft>
                <a:spcPts val="1324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5400" y="2975040"/>
            <a:ext cx="93805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743040" indent="0" algn="ctr">
              <a:lnSpc>
                <a:spcPct val="93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5400" spc="-1" strike="noStrike">
                <a:solidFill>
                  <a:srgbClr val="4c4c4c"/>
                </a:solidFill>
                <a:latin typeface="Arial"/>
                <a:ea typeface="HG Mincho Light J"/>
              </a:rPr>
              <a:t>6/03/0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93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93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4400" spc="-1" strike="noStrike">
                <a:solidFill>
                  <a:srgbClr val="4c4c4c"/>
                </a:solidFill>
                <a:latin typeface="Arial"/>
                <a:ea typeface="HG Mincho Light J"/>
              </a:rPr>
              <a:t>Brisbane</a:t>
            </a:r>
            <a:r>
              <a:rPr b="0" lang="en-GB" sz="5400" spc="-1" strike="noStrike">
                <a:solidFill>
                  <a:srgbClr val="4c4c4c"/>
                </a:solidFill>
                <a:latin typeface="Arial"/>
                <a:ea typeface="HG Mincho Light J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93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5400" spc="-1" strike="noStrike">
                <a:solidFill>
                  <a:srgbClr val="4c4c4c"/>
                </a:solidFill>
                <a:latin typeface="Arial"/>
                <a:ea typeface="HG Mincho Light J"/>
              </a:rPr>
              <a:t>Australi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600120" y="579600"/>
            <a:ext cx="8816760" cy="23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70000" y="1585800"/>
            <a:ext cx="9192960" cy="5619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25480" y="238680"/>
            <a:ext cx="86058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cessGrid Community Nodes</a:t>
            </a:r>
            <a:br>
              <a:rPr sz="44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HG Mincho Light J"/>
              </a:rPr>
              <a:t>http://www.accessgrid.org/community/nodes/nodes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1240" y="473040"/>
            <a:ext cx="8609040" cy="15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0349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800" spc="-1" strike="noStrike">
                <a:solidFill>
                  <a:srgbClr val="99ccff"/>
                </a:solidFill>
                <a:latin typeface="Arial Black"/>
                <a:ea typeface="HG Mincho Light J"/>
              </a:rPr>
              <a:t>Convergenc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741240" y="1944720"/>
            <a:ext cx="8609040" cy="50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0840" indent="0" algn="ctr">
              <a:lnSpc>
                <a:spcPct val="93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0840" indent="0" algn="ctr">
              <a:lnSpc>
                <a:spcPct val="93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HG Mincho Light J"/>
              </a:rPr>
              <a:t>Global Dialing Sc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0840" indent="0" algn="ctr">
              <a:lnSpc>
                <a:spcPct val="93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v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0840" indent="0" algn="ctr">
              <a:lnSpc>
                <a:spcPct val="93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HG Mincho Light J"/>
              </a:rPr>
              <a:t>Domain Name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0840" indent="0" algn="ctr">
              <a:lnSpc>
                <a:spcPct val="93000"/>
              </a:lnSpc>
              <a:buNone/>
              <a:tabLst>
                <a:tab algn="l" pos="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0840" indent="0" algn="ctr">
              <a:lnSpc>
                <a:spcPct val="93000"/>
              </a:lnSpc>
              <a:buNone/>
              <a:tabLst>
                <a:tab algn="l" pos="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0840" indent="0" algn="ctr">
              <a:lnSpc>
                <a:spcPct val="93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0840" indent="0" algn="ctr">
              <a:lnSpc>
                <a:spcPct val="93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HG Mincho Light J"/>
              </a:rPr>
              <a:t>Real Time Communica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0840" indent="0" algn="ctr">
              <a:lnSpc>
                <a:spcPct val="93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vs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HG Mincho Light J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20840" indent="0" algn="ctr">
              <a:lnSpc>
                <a:spcPct val="93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HG Mincho Light J"/>
              </a:rPr>
              <a:t>Real Use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125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  <a:ea typeface="HG Mincho Light J"/>
              </a:rPr>
              <a:t>Change in Empha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18920" y="1830240"/>
            <a:ext cx="9359640" cy="57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0840" indent="-316080">
              <a:lnSpc>
                <a:spcPct val="93000"/>
              </a:lnSpc>
              <a:spcAft>
                <a:spcPts val="1324"/>
              </a:spcAft>
              <a:buClr>
                <a:srgbClr val="ff0000"/>
              </a:buClr>
              <a:buSzPct val="68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ld Model =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Institutional Client/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0840" indent="-316080">
              <a:lnSpc>
                <a:spcPct val="93000"/>
              </a:lnSpc>
              <a:spcAft>
                <a:spcPts val="1324"/>
              </a:spcAft>
              <a:buClr>
                <a:srgbClr val="008000"/>
              </a:buClr>
              <a:buSzPct val="68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w Model =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Cross Institutional Grid/ Virtual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084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rgan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0840" indent="-316080">
              <a:lnSpc>
                <a:spcPct val="93000"/>
              </a:lnSpc>
              <a:spcAft>
                <a:spcPts val="1324"/>
              </a:spcAft>
              <a:buClr>
                <a:srgbClr val="ff0000"/>
              </a:buClr>
              <a:buSzPct val="68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Functional Departmen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0840" indent="-316080">
              <a:lnSpc>
                <a:spcPct val="93000"/>
              </a:lnSpc>
              <a:spcAft>
                <a:spcPts val="1324"/>
              </a:spcAft>
              <a:buClr>
                <a:srgbClr val="008000"/>
              </a:buClr>
              <a:buSzPct val="68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Cross Functional Working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084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overnm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0840" indent="-316080">
              <a:lnSpc>
                <a:spcPct val="93000"/>
              </a:lnSpc>
              <a:spcAft>
                <a:spcPts val="1324"/>
              </a:spcAft>
              <a:buClr>
                <a:srgbClr val="ff0000"/>
              </a:buClr>
              <a:buSzPct val="68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eographic div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0840" indent="-316080">
              <a:lnSpc>
                <a:spcPct val="93000"/>
              </a:lnSpc>
              <a:spcAft>
                <a:spcPts val="1324"/>
              </a:spcAft>
              <a:buClr>
                <a:srgbClr val="008000"/>
              </a:buClr>
              <a:buSzPct val="68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Whole of Gover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125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  <a:ea typeface="HG Mincho Light J"/>
              </a:rPr>
              <a:t>Change in Empha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1240" y="1631520"/>
            <a:ext cx="860904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0840" indent="-316080">
              <a:lnSpc>
                <a:spcPct val="93000"/>
              </a:lnSpc>
              <a:spcAft>
                <a:spcPts val="1324"/>
              </a:spcAft>
              <a:buClr>
                <a:srgbClr val="ff0000"/>
              </a:buClr>
              <a:buSzPct val="68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urricula, Policy,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0840" indent="-316080">
              <a:lnSpc>
                <a:spcPct val="93000"/>
              </a:lnSpc>
              <a:spcAft>
                <a:spcPts val="1324"/>
              </a:spcAft>
              <a:buClr>
                <a:srgbClr val="008000"/>
              </a:buClr>
              <a:buSzPct val="68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Sharing the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084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oli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0840" indent="-316080">
              <a:lnSpc>
                <a:spcPct val="93000"/>
              </a:lnSpc>
              <a:spcAft>
                <a:spcPts val="1324"/>
              </a:spcAft>
              <a:buClr>
                <a:srgbClr val="ff0000"/>
              </a:buClr>
              <a:buSzPct val="68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Driving an 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0840" indent="-316080">
              <a:lnSpc>
                <a:spcPct val="93000"/>
              </a:lnSpc>
              <a:spcAft>
                <a:spcPts val="1324"/>
              </a:spcAft>
              <a:buClr>
                <a:srgbClr val="008000"/>
              </a:buClr>
              <a:buSzPct val="68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Identifying greater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084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duca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0840" indent="-316080">
              <a:lnSpc>
                <a:spcPct val="93000"/>
              </a:lnSpc>
              <a:spcAft>
                <a:spcPts val="1324"/>
              </a:spcAft>
              <a:buClr>
                <a:srgbClr val="ff0000"/>
              </a:buClr>
              <a:buSzPct val="68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Defined Sectoral National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0840" indent="-316080">
              <a:lnSpc>
                <a:spcPct val="93000"/>
              </a:lnSpc>
              <a:spcAft>
                <a:spcPts val="1324"/>
              </a:spcAft>
              <a:buClr>
                <a:srgbClr val="008000"/>
              </a:buClr>
              <a:buSzPct val="68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Evolutionary International Lifelong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084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HG Mincho Light J"/>
              </a:rPr>
              <a:t>Virtual (Research) Organis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3000"/>
              </a:lnSpc>
              <a:spcBef>
                <a:spcPts val="1037"/>
              </a:spcBef>
              <a:spcAft>
                <a:spcPts val="2463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0840" indent="0" algn="ctr">
              <a:lnSpc>
                <a:spcPct val="93000"/>
              </a:lnSpc>
              <a:spcBef>
                <a:spcPts val="1037"/>
              </a:spcBef>
              <a:spcAft>
                <a:spcPts val="2463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ups &amp; Community Cent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0840" indent="0" algn="ctr">
              <a:lnSpc>
                <a:spcPct val="93000"/>
              </a:lnSpc>
              <a:spcBef>
                <a:spcPts val="1037"/>
              </a:spcBef>
              <a:spcAft>
                <a:spcPts val="2463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s &amp; Info taken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0840" indent="0" algn="ctr">
              <a:lnSpc>
                <a:spcPct val="93000"/>
              </a:lnSpc>
              <a:spcBef>
                <a:spcPts val="1037"/>
              </a:spcBef>
              <a:spcAft>
                <a:spcPts val="2463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nt Desk &amp; Arch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0840" indent="0" algn="ctr">
              <a:lnSpc>
                <a:spcPct val="93000"/>
              </a:lnSpc>
              <a:spcBef>
                <a:spcPts val="1037"/>
              </a:spcBef>
              <a:spcAft>
                <a:spcPts val="2463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active = Staging an inqui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HG Mincho Light J"/>
              </a:rPr>
              <a:t>Virtual (Research) Organis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0" y="2017800"/>
            <a:ext cx="6456240" cy="51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476"/>
              </a:spcBef>
              <a:spcAft>
                <a:spcPts val="1888"/>
              </a:spcAft>
              <a:buNone/>
              <a:tabLst>
                <a:tab algn="l" pos="0"/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476"/>
              </a:spcBef>
              <a:spcAft>
                <a:spcPts val="1888"/>
              </a:spcAft>
              <a:buNone/>
              <a:tabLst>
                <a:tab algn="l" pos="0"/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rect to Working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476"/>
              </a:spcBef>
              <a:spcAft>
                <a:spcPts val="1888"/>
              </a:spcAft>
              <a:buNone/>
              <a:tabLst>
                <a:tab algn="l" pos="0"/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are common Fi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3000"/>
              </a:lnSpc>
              <a:spcBef>
                <a:spcPts val="476"/>
              </a:spcBef>
              <a:spcAft>
                <a:spcPts val="1888"/>
              </a:spcAft>
              <a:buNone/>
              <a:tabLst>
                <a:tab algn="l" pos="0"/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sit in relational taxon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476"/>
              </a:spcBef>
              <a:spcAft>
                <a:spcPts val="1888"/>
              </a:spcAft>
              <a:buNone/>
              <a:tabLst>
                <a:tab algn="l" pos="0"/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ve in National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741240" y="1271160"/>
            <a:ext cx="8609040" cy="62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0840" indent="-211320" algn="ctr">
              <a:lnSpc>
                <a:spcPct val="93000"/>
              </a:lnSpc>
              <a:tabLst>
                <a:tab algn="l" pos="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HG Mincho Light J"/>
              </a:rPr>
              <a:t>Telephonic Prefix / Bibliographic Suffi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20840" indent="-211320" algn="ctr">
              <a:lnSpc>
                <a:spcPct val="93000"/>
              </a:lnSpc>
              <a:tabLst>
                <a:tab algn="l" pos="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  <a:ea typeface="HG Mincho Light J"/>
              </a:rPr>
              <a:t>http://www.oclc.org/dewey/versions/ddc22print/intro.pd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420840" indent="-211320" algn="ctr">
              <a:lnSpc>
                <a:spcPct val="93000"/>
              </a:lnSpc>
              <a:tabLst>
                <a:tab algn="l" pos="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20840" indent="-211320" algn="ctr">
              <a:lnSpc>
                <a:spcPct val="93000"/>
              </a:lnSpc>
              <a:tabLst>
                <a:tab algn="l" pos="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HG Mincho Light J"/>
              </a:rPr>
              <a:t>1800/Dewe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8000"/>
              </a:lnSpc>
              <a:spcBef>
                <a:spcPts val="737"/>
              </a:spcBef>
              <a:buClr>
                <a:srgbClr val="000000"/>
              </a:buClr>
              <a:buSzPct val="25000"/>
              <a:buFont typeface="Times New Roman"/>
              <a:buChar char="•"/>
              <a:tabLst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HG Mincho Light J"/>
              </a:rPr>
              <a:t>The ten main classes are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8000"/>
              </a:lnSpc>
              <a:spcBef>
                <a:spcPts val="737"/>
              </a:spcBef>
              <a:buClr>
                <a:srgbClr val="000000"/>
              </a:buClr>
              <a:buSzPct val="25000"/>
              <a:buFont typeface="Times New Roman"/>
              <a:buChar char="•"/>
              <a:tabLst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HG Mincho Light J"/>
              </a:rPr>
              <a:t>000 Encyclopedias,, information &amp; general referen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8000"/>
              </a:lnSpc>
              <a:spcBef>
                <a:spcPts val="737"/>
              </a:spcBef>
              <a:buClr>
                <a:srgbClr val="000000"/>
              </a:buClr>
              <a:buSzPct val="25000"/>
              <a:buFont typeface="Times New Roman"/>
              <a:buChar char="•"/>
              <a:tabLst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HG Mincho Light J"/>
              </a:rPr>
              <a:t>100 Philosophy &amp; psych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8000"/>
              </a:lnSpc>
              <a:spcBef>
                <a:spcPts val="737"/>
              </a:spcBef>
              <a:buClr>
                <a:srgbClr val="000000"/>
              </a:buClr>
              <a:buSzPct val="25000"/>
              <a:buFont typeface="Times New Roman"/>
              <a:buChar char="•"/>
              <a:tabLst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HG Mincho Light J"/>
              </a:rPr>
              <a:t>200 Relig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8000"/>
              </a:lnSpc>
              <a:spcBef>
                <a:spcPts val="737"/>
              </a:spcBef>
              <a:buClr>
                <a:srgbClr val="000000"/>
              </a:buClr>
              <a:buSzPct val="25000"/>
              <a:buFont typeface="Times New Roman"/>
              <a:buChar char="•"/>
              <a:tabLst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HG Mincho Light J"/>
              </a:rPr>
              <a:t>300 Social scienc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8000"/>
              </a:lnSpc>
              <a:spcBef>
                <a:spcPts val="737"/>
              </a:spcBef>
              <a:buClr>
                <a:srgbClr val="000000"/>
              </a:buClr>
              <a:buSzPct val="25000"/>
              <a:buFont typeface="Times New Roman"/>
              <a:buChar char="•"/>
              <a:tabLst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HG Mincho Light J"/>
              </a:rPr>
              <a:t>400 Langua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8000"/>
              </a:lnSpc>
              <a:spcBef>
                <a:spcPts val="737"/>
              </a:spcBef>
              <a:buClr>
                <a:srgbClr val="000000"/>
              </a:buClr>
              <a:buSzPct val="25000"/>
              <a:buFont typeface="Times New Roman"/>
              <a:buChar char="•"/>
              <a:tabLst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HG Mincho Light J"/>
              </a:rPr>
              <a:t>500 Scien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8000"/>
              </a:lnSpc>
              <a:spcBef>
                <a:spcPts val="737"/>
              </a:spcBef>
              <a:buClr>
                <a:srgbClr val="000000"/>
              </a:buClr>
              <a:buSzPct val="25000"/>
              <a:buFont typeface="Times New Roman"/>
              <a:buChar char="•"/>
              <a:tabLst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HG Mincho Light J"/>
              </a:rPr>
              <a:t>600 Techn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8000"/>
              </a:lnSpc>
              <a:spcBef>
                <a:spcPts val="737"/>
              </a:spcBef>
              <a:buClr>
                <a:srgbClr val="000000"/>
              </a:buClr>
              <a:buSzPct val="25000"/>
              <a:buFont typeface="Times New Roman"/>
              <a:buChar char="•"/>
              <a:tabLst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HG Mincho Light J"/>
              </a:rPr>
              <a:t>700 Arts &amp; recre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8000"/>
              </a:lnSpc>
              <a:spcBef>
                <a:spcPts val="737"/>
              </a:spcBef>
              <a:buClr>
                <a:srgbClr val="000000"/>
              </a:buClr>
              <a:buSzPct val="25000"/>
              <a:buFont typeface="Times New Roman"/>
              <a:buChar char="•"/>
              <a:tabLst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HG Mincho Light J"/>
              </a:rPr>
              <a:t>800 Literatu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8000"/>
              </a:lnSpc>
              <a:spcBef>
                <a:spcPts val="737"/>
              </a:spcBef>
              <a:buClr>
                <a:srgbClr val="000000"/>
              </a:buClr>
              <a:buSzPct val="25000"/>
              <a:buFont typeface="Times New Roman"/>
              <a:buChar char="•"/>
              <a:tabLst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HG Mincho Light J"/>
              </a:rPr>
              <a:t>900 History &amp; geograph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ctr">
              <a:lnSpc>
                <a:spcPct val="98000"/>
              </a:lnSpc>
              <a:spcBef>
                <a:spcPts val="737"/>
              </a:spcBef>
              <a:tabLst>
                <a:tab algn="l" pos="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ctr">
              <a:lnSpc>
                <a:spcPct val="98000"/>
              </a:lnSpc>
              <a:spcBef>
                <a:spcPts val="737"/>
              </a:spcBef>
              <a:tabLst>
                <a:tab algn="l" pos="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HG Mincho Light J"/>
              </a:rPr>
              <a:t>The parts of the DDC are arranged by discipline, not subject, so a subject may appe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ctr">
              <a:lnSpc>
                <a:spcPct val="98000"/>
              </a:lnSpc>
              <a:spcBef>
                <a:spcPts val="737"/>
              </a:spcBef>
              <a:tabLst>
                <a:tab algn="l" pos="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HG Mincho Light J"/>
              </a:rPr>
              <a:t>in more than one clas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20840" indent="-211320" algn="ctr">
              <a:lnSpc>
                <a:spcPct val="95000"/>
              </a:lnSpc>
              <a:tabLst>
                <a:tab algn="l" pos="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705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Arial Black"/>
                <a:ea typeface="HG Mincho Light J"/>
              </a:rPr>
              <a:t>FI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2852280" y="1707840"/>
            <a:ext cx="631980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0840" indent="0">
              <a:lnSpc>
                <a:spcPts val="5635"/>
              </a:lnSpc>
              <a:buNone/>
              <a:tabLst>
                <a:tab algn="l" pos="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 Black"/>
                <a:ea typeface="HG Mincho Light J"/>
              </a:rPr>
              <a:t>F</a:t>
            </a:r>
            <a:r>
              <a:rPr b="1" lang="en-GB" sz="3200" spc="-1" strike="noStrike">
                <a:solidFill>
                  <a:srgbClr val="00ae00"/>
                </a:solidFill>
                <a:latin typeface="Arial Black"/>
                <a:ea typeface="HG Mincho Light J"/>
              </a:rPr>
              <a:t>RAMEWORK</a:t>
            </a:r>
            <a:r>
              <a:rPr b="0" lang="en-GB" sz="3200" spc="-1" strike="noStrike">
                <a:solidFill>
                  <a:srgbClr val="198a8a"/>
                </a:solidFill>
                <a:latin typeface="Andale Mono"/>
                <a:ea typeface="HG Mincho Light J"/>
              </a:rPr>
              <a:t> </a:t>
            </a:r>
            <a:r>
              <a:rPr b="0" lang="en-GB" sz="2000" spc="-1" strike="noStrike">
                <a:solidFill>
                  <a:srgbClr val="999999"/>
                </a:solidFill>
                <a:latin typeface="Andale Mono"/>
                <a:ea typeface="HG Mincho Light J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20840" indent="0">
              <a:lnSpc>
                <a:spcPct val="94000"/>
              </a:lnSpc>
              <a:buNone/>
              <a:tabLst>
                <a:tab algn="l" pos="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0840" indent="0">
              <a:lnSpc>
                <a:spcPct val="118000"/>
              </a:lnSpc>
              <a:buNone/>
              <a:tabLst>
                <a:tab algn="l" pos="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 Black"/>
                <a:ea typeface="HG Mincho Light J"/>
              </a:rPr>
              <a:t>I</a:t>
            </a:r>
            <a:r>
              <a:rPr b="1" lang="en-GB" sz="3200" spc="-1" strike="noStrike">
                <a:solidFill>
                  <a:srgbClr val="00ae00"/>
                </a:solidFill>
                <a:latin typeface="Arial Black"/>
                <a:ea typeface="HG Mincho Light J"/>
              </a:rPr>
              <a:t>NTER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0840" indent="0">
              <a:lnSpc>
                <a:spcPct val="94000"/>
              </a:lnSpc>
              <a:buNone/>
              <a:tabLst>
                <a:tab algn="l" pos="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0840" indent="0">
              <a:lnSpc>
                <a:spcPct val="118000"/>
              </a:lnSpc>
              <a:buNone/>
              <a:tabLst>
                <a:tab algn="l" pos="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 Black"/>
                <a:ea typeface="HG Mincho Light J"/>
              </a:rPr>
              <a:t>N</a:t>
            </a:r>
            <a:r>
              <a:rPr b="1" lang="en-GB" sz="3200" spc="-1" strike="noStrike">
                <a:solidFill>
                  <a:srgbClr val="00ae00"/>
                </a:solidFill>
                <a:latin typeface="Arial Black"/>
                <a:ea typeface="HG Mincho Light J"/>
              </a:rPr>
              <a:t>ETWO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0840" indent="0">
              <a:lnSpc>
                <a:spcPct val="94000"/>
              </a:lnSpc>
              <a:buNone/>
              <a:tabLst>
                <a:tab algn="l" pos="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0840" indent="0">
              <a:lnSpc>
                <a:spcPct val="118000"/>
              </a:lnSpc>
              <a:buNone/>
              <a:tabLst>
                <a:tab algn="l" pos="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 Black"/>
                <a:ea typeface="HG Mincho Light J"/>
              </a:rPr>
              <a:t>D</a:t>
            </a:r>
            <a:r>
              <a:rPr b="1" lang="en-GB" sz="3200" spc="-1" strike="noStrike">
                <a:solidFill>
                  <a:srgbClr val="00ae00"/>
                </a:solidFill>
                <a:latin typeface="Arial Black"/>
                <a:ea typeface="HG Mincho Light J"/>
              </a:rPr>
              <a:t>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HG Mincho Light J"/>
              </a:rPr>
              <a:t>Li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1240" y="1837800"/>
            <a:ext cx="8609040" cy="572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 algn="ctr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20840" indent="0" algn="ctr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ttp://www.internet2.edu/pubs/rtc-next-steps.pd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20840" indent="0" algn="ctr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ttps://mail.internet2.edu/wws/arc/i2-news/2005-05/msg00002.htm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20840" indent="0" algn="ctr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ttp://www.cordis.lu/ist/fet/comms.ht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20840" indent="0" algn="ctr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ttp://www.e-irg.org/about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20840" indent="0" algn="ctr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ttp://www.gridcoord.org/grid/por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2084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2084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HG Mincho Light J"/>
              </a:rPr>
              <a:t>Li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1240" y="1837800"/>
            <a:ext cx="8609040" cy="572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spcAft>
                <a:spcPts val="1324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0840" indent="0" algn="ctr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 of an International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0840" indent="0" algn="ctr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0840" indent="0" algn="ctr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Courier New"/>
              </a:rPr>
              <a:t>http://Http://middleware.internet2.edu/MACE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20840" indent="0" algn="ctr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Courier New"/>
              </a:rPr>
              <a:t>http://www.jisc.ac.uk/index.cfm?name=international_middlewa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20840" indent="0" algn="ctr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Courier New"/>
              </a:rPr>
              <a:t>http://www.aarnet.edu.au/events/middle/200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20840" indent="0" algn="ctr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Courier New"/>
              </a:rPr>
              <a:t>/http://www.terena.nl/tech/eurocamp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0840" indent="-211320" algn="ctr">
              <a:lnSpc>
                <a:spcPct val="95000"/>
              </a:lnSpc>
              <a:tabLst>
                <a:tab algn="l" pos="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0840" indent="-211320" algn="ctr">
              <a:lnSpc>
                <a:spcPct val="93000"/>
              </a:lnSpc>
              <a:tabLst>
                <a:tab algn="l" pos="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Australian Patent Provisional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0840" indent="-211320" algn="ctr">
              <a:lnSpc>
                <a:spcPct val="93000"/>
              </a:lnSpc>
              <a:tabLst>
                <a:tab algn="l" pos="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20039033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0840" indent="-211320" algn="ctr">
              <a:lnSpc>
                <a:spcPct val="93000"/>
              </a:lnSpc>
              <a:tabLst>
                <a:tab algn="l" pos="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0840" indent="-211320" algn="ctr">
              <a:lnSpc>
                <a:spcPct val="93000"/>
              </a:lnSpc>
              <a:tabLst>
                <a:tab algn="l" pos="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USA Patent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0840" indent="-211320" algn="ctr">
              <a:lnSpc>
                <a:spcPct val="93000"/>
              </a:lnSpc>
              <a:tabLst>
                <a:tab algn="l" pos="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10/881,0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0840" indent="-211320" algn="ctr">
              <a:lnSpc>
                <a:spcPct val="93000"/>
              </a:lnSpc>
              <a:tabLst>
                <a:tab algn="l" pos="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0840" indent="-211320" algn="ctr">
              <a:lnSpc>
                <a:spcPct val="93000"/>
              </a:lnSpc>
              <a:tabLst>
                <a:tab algn="l" pos="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DEWTEL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0840" indent="-211320" algn="ctr">
              <a:lnSpc>
                <a:spcPct val="93000"/>
              </a:lnSpc>
              <a:tabLst>
                <a:tab algn="l" pos="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9722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10022040" cy="160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bd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HG Mincho Light J"/>
              </a:rPr>
              <a:t>Part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904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3000"/>
              </a:lnSpc>
              <a:spcAft>
                <a:spcPts val="1324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CL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2480" indent="-282600">
              <a:lnSpc>
                <a:spcPct val="93000"/>
              </a:lnSpc>
              <a:spcAft>
                <a:spcPts val="1037"/>
              </a:spcAft>
              <a:buClr>
                <a:srgbClr val="000000"/>
              </a:buClr>
              <a:buSzPct val="2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ttp://www.oclc.org/questionpoint/default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20840" indent="-316080">
              <a:lnSpc>
                <a:spcPct val="93000"/>
              </a:lnSpc>
              <a:spcAft>
                <a:spcPts val="1324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A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0840" indent="-316080">
              <a:lnSpc>
                <a:spcPct val="93000"/>
              </a:lnSpc>
              <a:spcAft>
                <a:spcPts val="1324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2480" indent="-282600">
              <a:lnSpc>
                <a:spcPct val="93000"/>
              </a:lnSpc>
              <a:spcAft>
                <a:spcPts val="1037"/>
              </a:spcAft>
              <a:buClr>
                <a:srgbClr val="000000"/>
              </a:buClr>
              <a:buSzPct val="2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ttp://pandora.nla.gov.au/about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20840" indent="-316080">
              <a:lnSpc>
                <a:spcPct val="93000"/>
              </a:lnSpc>
              <a:spcAft>
                <a:spcPts val="1324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0840" indent="-316080">
              <a:lnSpc>
                <a:spcPct val="93000"/>
              </a:lnSpc>
              <a:spcAft>
                <a:spcPts val="1324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2480" indent="-282600">
              <a:lnSpc>
                <a:spcPct val="93000"/>
              </a:lnSpc>
              <a:spcAft>
                <a:spcPts val="1037"/>
              </a:spcAft>
              <a:buClr>
                <a:srgbClr val="000000"/>
              </a:buClr>
              <a:buSzPct val="2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ttp://www.abs.gov.au/ausstats/abs@.nsf/66f306f503e529a5ca25697e0017661f/44871faf47845ee1ca25697e0018fd1e!OpenDocu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20840" indent="-316080">
              <a:lnSpc>
                <a:spcPct val="93000"/>
              </a:lnSpc>
              <a:spcAft>
                <a:spcPts val="1324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el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0840" indent="-211320" algn="ctr">
              <a:lnSpc>
                <a:spcPct val="95000"/>
              </a:lnSpc>
              <a:tabLst>
                <a:tab algn="l" pos="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0840" indent="-211320" algn="ctr">
              <a:lnSpc>
                <a:spcPct val="93000"/>
              </a:lnSpc>
              <a:spcBef>
                <a:spcPts val="788"/>
              </a:spcBef>
              <a:spcAft>
                <a:spcPts val="788"/>
              </a:spcAft>
              <a:tabLst>
                <a:tab algn="l" pos="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An Information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0840" indent="-211320" algn="ctr">
              <a:lnSpc>
                <a:spcPct val="93000"/>
              </a:lnSpc>
              <a:spcBef>
                <a:spcPts val="788"/>
              </a:spcBef>
              <a:spcAft>
                <a:spcPts val="788"/>
              </a:spcAft>
              <a:tabLst>
                <a:tab algn="l" pos="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Directory for virtual ven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0840" indent="-211320" algn="ctr">
              <a:lnSpc>
                <a:spcPct val="93000"/>
              </a:lnSpc>
              <a:spcBef>
                <a:spcPts val="788"/>
              </a:spcBef>
              <a:spcAft>
                <a:spcPts val="788"/>
              </a:spcAft>
              <a:tabLst>
                <a:tab algn="l" pos="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Classification for Virtual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0840" indent="-211320" algn="ctr">
              <a:lnSpc>
                <a:spcPct val="93000"/>
              </a:lnSpc>
              <a:spcBef>
                <a:spcPts val="788"/>
              </a:spcBef>
              <a:spcAft>
                <a:spcPts val="788"/>
              </a:spcAft>
              <a:tabLst>
                <a:tab algn="l" pos="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Code for National Research Infra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10022040" cy="160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808080"/>
                </a:solidFill>
                <a:latin typeface="Times New Roman"/>
                <a:ea typeface="HG Mincho Light J"/>
              </a:rPr>
              <a:t>HIST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904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92200" y="1947960"/>
            <a:ext cx="9229680" cy="513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HG Mincho Light J"/>
              </a:rPr>
              <a:t>GLOBAL DIALING SCHEME</a:t>
            </a:r>
            <a:br>
              <a:rPr sz="44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HG Mincho Light J"/>
              </a:rPr>
              <a:t>http://commons.internet2.edu/gds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99840" y="1863720"/>
            <a:ext cx="88246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814"/>
              </a:spcBef>
              <a:spcAft>
                <a:spcPts val="814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Each basic number consists of four par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814"/>
              </a:spcBef>
              <a:spcAft>
                <a:spcPts val="814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&lt; IAC&gt;&lt;CC&gt;&lt;OP&gt;&lt;EN&gt;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HG Mincho Light J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814"/>
              </a:spcBef>
              <a:spcAft>
                <a:spcPts val="814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814"/>
              </a:spcBef>
              <a:spcAft>
                <a:spcPts val="814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1. The International Access Code (IAC)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HG Mincho Light J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HG Mincho Light J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HG Mincho Light J"/>
              </a:rPr>
              <a:t>Also called the world gatekeeper prefix. This is defined as 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814"/>
              </a:spcBef>
              <a:spcAft>
                <a:spcPts val="814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2. A Country Code (CC)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HG Mincho Light J"/>
              </a:rPr>
              <a:t>This follows the ITU international access code system. E.g,  country code for the Netherlands is 3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814"/>
              </a:spcBef>
              <a:spcAft>
                <a:spcPts val="814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3. An Organisational Prefix (OP)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HG Mincho Light J"/>
              </a:rPr>
              <a:t>Many national research organisations follow the telephone number system in their country and use their area code and organisational telephone exchange prefi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814"/>
              </a:spcBef>
              <a:spcAft>
                <a:spcPts val="814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4. An Endpoint Number (EN)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HG Mincho Light J"/>
              </a:rPr>
              <a:t>Your EN  can be any number and is decided by each organisation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HG Mincho Light J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HG Mincho Light J"/>
              </a:rPr>
              <a:t>Global Dialing Schem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HG Mincho Light J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904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52440" y="2095560"/>
            <a:ext cx="9194760" cy="50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HG Mincho Light J"/>
              </a:rPr>
              <a:t>Domain Name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904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20640" y="2028960"/>
            <a:ext cx="8863200" cy="503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904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6280" y="662040"/>
            <a:ext cx="9686880" cy="625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614600" y="228600"/>
            <a:ext cx="6999120" cy="7205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imon Fenton- Jones</dc:creator>
  <dc:description/>
  <dc:language>en-US</dc:language>
  <cp:lastModifiedBy>Simon Fenton- Jones</cp:lastModifiedBy>
  <cp:revision>0</cp:revision>
  <dc:subject/>
  <dc:title/>
</cp:coreProperties>
</file>